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93A-C124-406C-87EE-D5FF586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9AD-3D5F-4FEE-B17C-0191CB57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7F7-330D-4354-9AAC-49743D23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686-0A3E-468A-A3B5-CF9CCAAD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733-FDE2-4A55-9EA7-4F55251B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D5C-2287-43BF-9B0B-0FD9B969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938-DB0F-4BE4-95EB-89971F7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CE9-78A2-472A-8E18-EDF72111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7E7-83F1-4660-8AA8-764A13E9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03B-7E45-42AE-8BE1-359F0AE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408-3879-4AF9-9130-90D1F1D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15E-C45C-4DEA-AA26-35DEB8C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805A-E725-49A2-A0E3-E31DD68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E251-FD2D-458E-B652-4749FD7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96BA-FDC0-4C9E-9117-37C4BB4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960E-756B-4246-81C5-1ADA87E8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98A9-7D28-42E1-9386-5A06E187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501-794D-4AD0-A198-0433217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0E4-13D0-4125-B94E-406A3814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568-0F7D-4F2F-927A-6E30CA2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0CC-073D-4431-8A60-31DBC8E7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914-9AF2-4E47-9A8C-79094A6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29F-33CE-43B8-8208-B693EA9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C5B-9552-4F61-ACAB-6E767B2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FCD-C860-4C70-972A-2CC502F440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C97-E11E-4C53-8AF5-0015997EF2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mpact"/>
              </a:rPr>
              <a:t>B</a:t>
            </a:r>
            <a:r>
              <a:rPr b="1" lang="ru-RU" sz="7200" spc="-1" strike="noStrike">
                <a:solidFill>
                  <a:srgbClr val="ffffff"/>
                </a:solidFill>
                <a:latin typeface="Impact"/>
              </a:rPr>
              <a:t>лияние алкоголя на организм челове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выделительной системы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8028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еме необычно боль­ших доз алкоголя, когда речь идет об алкогольном отравлении, послед­ствия более серьезные—может развиться некронефроз. Эта форма за­болевания бывает связана только с алкогольным эксцессом. Поражаются канальцы почек, клубочковый аппарат не изменяется. В эпителии канальцев происходят дистрофические изменения вплоть до развития некрозов, слущивание клеток эпителия в просвет канальц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ная болезнь может сопровождаться инфекцией мочевых путей и развитием пиелонефрита. Это поражение развивается в связи со снижением функции иммунной защиты под воздействием алког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системы крови</a:t>
            </a:r>
            <a:br>
              <a:rPr sz="48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79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изменении лейкоцитов было сказано в связи с алкогольным по­ражением иммунной системы. Другие клеточные элементы крови так­же меняются при хроническом употреблении алкоголя. При алкогольном макроцитозе  макроциты составляют большинство эритроцитов. При этом в мембранах таких эритроцитов обнаруживается повышенное содержание холесте­рина. Частота встречаемости этого феномена при злоупотреблении алкоголем составляет более 80%. Это явление и медленная (в течение 2—4 мес.) нормализация размеров эритроцитов после прекращения приема алкоголя позволяют отнести макроцитоз эритроцитов к маркерам алкогольной боле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нервной системы</a:t>
            </a: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547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ная болезнь может проявляться множеством неврологиче­ских симптомов, в основе которых лежат описанные метаболические нарушения мозга, ведущие помимо прочего к дистрофии и некрозу нервных клеток: повышенная секреция жидкости под воздействием алкоголя сосудистыми сплетениями желудочков мозга и в результате увеличение внутричерепного д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72080" y="11970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коголизм занимает почетное место в середине континуума заболеваний, связанных с зависимостью от психоактивных веществ. Алкоголизм как болезнь - преимущественно следствие неадекватной по способу адаптации несовершенного человека к стрессогенным условиям жизни. Хроническое злоупотребление алкоголем может нанести серьезный ущерб системам гормональной регуляции состояния организма человека, причем последствия такого воздействия сохраняются в течение продолжительного времени после излечения от алкогол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69160" y="2060640"/>
            <a:ext cx="31748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ЙТЕ МОЛОКО))))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3970440" cy="397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50767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психологические причины пьянства вы знает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24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сихологические причины пьянств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15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изм – патологическое влечение к спиртному с последующей социально-нравственной деградацией личности. Пьянство – это неумеренное употребление алкоголя, которое наряду с угрозой здоровью личности нарушает ее социальную адап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01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35280" y="882720"/>
            <a:ext cx="6408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изм -  это поступательное заболевание, оно начинается с бытового пьянства и заканчивается на клинической койке. Для пьяницы со стажем доза спиртного увеличивается в 2- 3 раза по сравнению с прежней нормой. В организме человека происходят необратимые процессы, организму необходим спирт для обменных процессов. На последней стадии алкоголизма порог толерантности снижается, человеку достаточно выпить кружку пива для хм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2732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ак влияет алкоголь на различные органы и их системы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93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2" action="ppaction://hlinksldjump"/>
              </a:rPr>
              <a:t>Алкогольное поражение пищеваритель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3" action="ppaction://hlinksldjump"/>
              </a:rPr>
              <a:t>Алкогольное поражение сердечно-сосудист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4" action="ppaction://hlinksldjump"/>
              </a:rPr>
              <a:t>Алкогольное поражение системы иммунной защиты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5" action="ppaction://hlinksldjump"/>
              </a:rPr>
              <a:t>Алкогольное поражение органов дых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6" action="ppaction://hlinksldjump"/>
              </a:rPr>
              <a:t>Алкогольное поражение выделитель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7" action="ppaction://hlinksldjump"/>
              </a:rPr>
              <a:t>Алкогольное поражение системы кр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8" action="ppaction://hlinksldjump"/>
              </a:rPr>
              <a:t>Алкогольное поражение нерв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пищеварительной систем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6156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ы пищеварительного тракта выполняют защитную функцию на пути проникновения алкоголя в организм и первыми испытывают его воздействие. Систематическое употребление более высоких доз алкоголя снижает секрецию в желудке как соляной  кислоты, так и пепсина. Защитный гель стенок желудка под воздействием этанола также претерпевает значительные измен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38720" y="1413000"/>
            <a:ext cx="30052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сердечно-сосудистой систем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е однократного введения алкоголя в средней дозе, если ему не предшествует хроническая алкогольная интоксикация, уже в течение первого часа проявляется прежде всего снижением нагрузки на левый желудочек, что связано с уменьшением периферического сопротивления. Если продолжать систематическое употребление алкоголя, то его токсическое воздействие на сердце ведет к прогрессивному нарастанию дистрофических изменений мышечных клеток, вплоть до появления в них микро- и даже макронекрозов. Вместе со значительным утолщением стенок мелких артерий и разрастанием в них и вокруг соединительной ткани происходит расширение сосудов и замедление тока крови, что приводит к застою и отеку. В дальнейшем отек переходит в склеро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системы иммунной защиты организма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1125360"/>
            <a:ext cx="8388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ом употреблении алкоголя наряду с другими страдает и иммунная система. При систематическом злоупотреблении спиртными напитками спустя довольно длительный срок наблюдается заметное снижение фагоцитоза, мобилизация фагоцитов остается сниженной. Лизоцим - белок, содержащийся во многих секретах человека: в слюне, слезах, тканях различных внутренних органов, скелетных мышцах и т. д. В условиях хронической интоксикации организма алкоголем уровень лизоцима понижается. Также наблюдается недостаток лимфоцитов. Следующей причиной лежащей в основе иммунных нарушений лежит снижение барьерной функции печени. Таким образом, систематическое употребление алкоголя ведет к снижению защиты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органов дыха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802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нения в системе дыхания связаны с двумя основными момен­тами. Первое — это способность легких выделять в неизмененном виде как сам этанол, так и его метаболит—ацетальдегид. Второе — это по­вышенная вероятность аспирации различных количеств пищи. Этанол и ацетальдегид, выделяясь в альвеолы, оказывают на клетки легочной ткани токсическое действие. В пораженной ткани наблюдаются гибель отдельных клеток. Повреждающее дей­ствие этанол и его метаболиты оказывают не только на альвеолу, но и на стенки воздухоносных путей - бронхи и трахею. Указанные изменения проявляются в нарушении функции дыхания, ко­торое составляют снижение жизненной емкости и максимальной вен­тиляции легких, уменьшение длительности задержки дыхания на вдо­хе и выдох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ьявол</cp:lastModifiedBy>
  <dcterms:modified xsi:type="dcterms:W3CDTF">2009-11-27T09:20:00Z</dcterms:modified>
  <cp:revision>2</cp:revision>
  <dc:subject/>
  <dc:title>PowerPoint Presentation</dc:title>
</cp:coreProperties>
</file>